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AD5-096A-43CA-9E84-C018EB4A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E3A-CF10-45CA-8A30-8E1547C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F10-357F-4451-871B-35F31DFD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F53-B223-4E0D-AA7A-59A71218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7E1-E158-402C-85A0-9D280CA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DD9-F5A0-4FB3-B7CC-53D9BDA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FF1-6A97-4A8A-B3A9-4EC0428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6CB-5A71-4CD8-8903-860A6855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0F0-1472-46E9-82B8-23AC97C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883-282E-4703-95BD-AD803BB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4EE-3AED-4ED0-AE1E-1251C95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CC2-A037-4A44-A896-611A594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50F-9081-4A55-BE18-8DFF3A4A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oregonlive.com/pdxgreen/2007/09/hose.jpg&amp;imgrefurl=http://blog.oregonlive.com/pdxgreen/2007/09/&amp;usg=__8mrTX0qp9mA0nsNFUufyWx0Y0dA=&amp;h=1350&amp;w=900&amp;sz=363&amp;hl=en&amp;start=15&amp;tbnid=-OE8so_mhgHMtM:&amp;tbnh=150&amp;tbnw=100&amp;prev=/images%3Fq%3Dgarden%2Bhose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Question 1 in the Mumm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There were a lot different tools that the Ancient Egyptians used to fish out the internal org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hich one was used first to fish out pieces of the br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2590920" cy="18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743120" cy="174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96080" y="762120"/>
            <a:ext cx="12384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45720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Question 2 in the vocabular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Calligraphy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is the name if the object that the Ancient Egyptians used to get water from the Nil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544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Question 3 in the invention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rue or false? The garden hose was one of the Ancient Egyptian inventions that we still us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57560"/>
            <a:ext cx="30672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3434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33520"/>
            <a:ext cx="80010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pyrus"/>
              </a:rPr>
              <a:t>The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apyrus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Papyrus"/>
              </a:rPr>
              <a:t> and final question in the astronomy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What is the name of the dog constellation that the Ancient Egyptians saw at about the same time that the Nile began to rise rapi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388620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6094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nk You for taking this quiz. These will be graded and anyone who gets everything right will be put into a raffle. The winner gets a pri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474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Default</cp:lastModifiedBy>
  <dcterms:modified xsi:type="dcterms:W3CDTF">2009-01-16T18:04:51Z</dcterms:modified>
  <cp:revision>4</cp:revision>
  <dc:subject/>
  <dc:title>Slide 1</dc:title>
</cp:coreProperties>
</file>